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E6B-B696-48CD-8970-CD47586C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9233-F8BD-4CD7-866D-BD039E1F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0061E-17BA-4887-BBD9-42ED406C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027E3-08F5-4853-8BEA-44AFC70F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44D83-F9DE-4551-8F9F-70554186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B2B98-E1DA-4835-8B9C-51049373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33E58-BDCF-441F-AA5B-726D4CB2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C981D-0913-469C-A431-67947883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F5DE1-8966-4759-A2E2-C920ECB2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27802-0542-410A-9E47-B276959E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C94E4-4F2D-4D34-8E75-0C257E92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D7EA6-3F55-4768-8D87-4592D36E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EF8-6C38-430F-AE58-CDD4A43E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EE0AE-705D-4948-99F9-4B5DFC03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DD310-E86D-4840-86DE-77CD3088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1538D-91F8-41A7-A699-8E0DD55D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AAF67-73BA-4FBF-BFF6-F5C76846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90254-DFCF-4BA1-8500-53D7D55D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EAEA8-0DF1-439A-BC1A-E7F0406A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FF909-4CFB-4F2C-B5E6-2DE0E0A2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EA6BD-6F56-4DBF-8B97-1625F3A7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EFD41-5775-4D22-890B-9E6E50AA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DBF9B-4B93-422D-B9E2-61D6369A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552-5CC2-4CC0-876E-D46451EE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3148E-47ED-4F4C-9BCB-8BE9E791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2E587-2A82-4ED5-8ED9-C127CC18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82877-4635-4E11-A579-FB275070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27E7B-73E4-4613-93E0-1FB47267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AA5AB-F7F1-4FFB-8CD1-36590E73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DC775-F8DD-4249-97DC-D7C38CA5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C1AA4-BF58-4D5E-B425-9BE6959D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407F6-7600-429F-9C6B-39B7429B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DC2FE-707E-45AD-88CD-440D075B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1A981-CADB-41CC-ACF6-B99F93F7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9B11-5A65-4A30-BDC1-94935138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92A4C-DFF3-4811-950D-25763E94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A7EA6-606B-4DBA-B1DA-C85F6B24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99FDC-8432-49EF-AB98-97C06C74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8780D-B33A-4268-BC7B-CC8D473A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E6C69-52AB-4799-B5B3-5255ABF9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6F226-F700-4727-94D6-DE43339E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EC473-CA02-42FD-B7C8-6B6E1D4C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9C028-C9D4-4678-881C-756BCD52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DC422-CF5B-4FAF-AC52-6876FD6F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FAB47-F183-4B7E-8600-A2CAEEB5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1FA4-4B63-4A01-BC17-69422223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3DC7F-B997-4CDA-A88A-8B0D7E6D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139BE-74AF-4819-A0C2-C54F70C4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B1214-94B3-422D-B43A-3A7BFD2D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C7770-38E0-4952-A11F-0E4A563E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7CD67-82FC-4D47-9E7A-AEAA547F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EBF344-6F4F-4C3C-A054-3D7593C0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B4778-6463-41B6-A010-3AB2D34F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0FA5B-5756-42B4-82CD-9B6F667E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C18DD-4B3C-4D9D-9C51-00CF1A09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7C907-A47F-4477-AC14-F47870B4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61D0-E75C-4189-94AC-6F0D4601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809CD-772B-4721-9FB9-6E88849D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03E08-AD92-4867-B479-014505C5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46F95C-A253-42AB-A956-FB77B24B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84AE0-B92D-4707-A5AE-6F121A17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9D0BE-262C-4C58-9CFC-BF91C118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A6306-4AFE-4BE3-B944-F6CB8444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9BC428-395E-4537-9342-2CB95F77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D4C3C1-F15D-422F-BD34-0B7ED9C0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C12E9-1275-4FF4-A97B-836D3A59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5CDDA6-C9B8-40F8-BBD3-FBF5DDD9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837E-E62E-4D00-B746-0F9FCA4B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38F117-0B6E-49C8-A966-F0E570C4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D85DF7-14C7-4CC5-8421-C1448FB2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1C926-A706-4957-A613-FC177872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012A8A-76E7-49D3-ABCA-5C652DDD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C6141-B5C7-48D5-8302-8DDAEB8C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F5FD45-EF7D-4660-9073-1BC5DC50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D6C043-19EC-4E6E-9922-87F10CD4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31F52A-2050-4A83-A850-61909116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1B8F8D-4A4F-44F1-BCA7-254E1722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AD1FC4-7604-45AD-A9EF-1EDDA443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808F-B435-40AA-860E-1F69D1A0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08E0E3-6E65-43F3-92C5-B6412F6C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389ABD-BA37-48C8-BD3D-46147939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347242-832F-44AA-B112-BD89E33B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37E9B7-962D-4302-AEBE-64466F9D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B228F1-34C9-4240-A287-D11BF8EB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D9C661-6117-49FA-9989-B5DCF700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142C8-B5FD-413F-A959-6CE8AEA6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DBF59D-0189-48A7-B587-2794287F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89632C-78FF-4F33-B56C-E067BEFC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6DD375-E3EA-40D0-9EC1-716FF01C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482D-0333-45C3-9C43-82D845A1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39EDA9-6869-4881-8D42-48673557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29CB3B-232E-4A61-AD90-98204124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30544D-3C46-4281-9CF0-1948910F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84AE8F-02CA-4165-990F-2656FDF3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C4E726-1F2A-4313-B432-C6F97A9D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3F7455-850D-48D5-BB60-EB964F11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9B5550-4BE7-4B15-8D37-CC688F8D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C6D2C4-A317-4BB6-B4AE-EADF7D77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A58FBE-5F78-4A49-A1C3-2F1F87A6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AA8331-F9F9-4F86-A534-45DD9173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AE13-4CF2-43CF-BF70-B4D01950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5B45B9-B943-4C86-A98C-8BB55C3C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0E18EF-EF8A-452B-9D9E-6511DF7B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C46BA6-6A60-4988-AC73-BA55629B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E0E8CD-6773-4D68-B132-D2B1D6F2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A0C424-25C8-4F38-A8D7-8157BA8C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3EBF37-63CA-4E17-B6D3-28625FD9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912447-C24A-4487-B47F-E76A3206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CB958C-FB59-4449-A2F7-B354B11E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46E7F6-720D-4AFF-ACF3-5653C52D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05CDDF-55C9-4ED8-B3B5-EDF29C97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B830-19F0-448A-8B02-8F210902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EAB5-2006-44F5-9CFE-0DABD03C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3C37F1-FE3C-465D-9DED-A7F283F1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48297E-5539-4FB2-8ACD-30F5D2DB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91213B-7681-4C9B-9EEA-0A8C9CB0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9DD04F-3BA9-4F6C-B32D-09B238E4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75A988-ACD8-48A7-9710-0FACCD39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23573D-1E33-4376-AADA-14CB902A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E82554-371F-496E-8921-C477F087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6A9256-AD66-460F-90DB-8C04480F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2E2512-4707-47D9-AD1E-28243921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A56B7F-8DFD-4D55-9FE0-44C238DF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C464-9590-48D0-B509-E5D71416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73CEFF-AFA4-4160-A9E7-5042369F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A082EA-EFCE-4048-88D0-B567D835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40C8F9-56C1-487F-B824-7EF3A385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FD2F6D-1082-494D-B20A-4DA6C4CA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336546-6F12-4D90-A751-A8FCD129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E1F920-A6BC-49C0-A898-781D1884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EFDBEF-749C-4ED1-B625-CFF6F8F4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A88824-6031-4A03-A6E9-E53F1447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07AA37-5735-431B-A03F-19EE707E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9CCA80-2949-4625-A7FD-AE671CCC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9E9D-86A4-45B0-A82E-BA9FAF9E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EB7DCE-1254-4452-9CE7-E255E7CA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FCC247-E26A-4BC5-9D0D-5273FF83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10F49A-2655-4305-B670-D2951C0F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F15626-E70F-447C-8FA7-145F048E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2A9BF4-7BE8-4F95-BD25-24B1672F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0AB91F-DA41-43A9-97C7-478BAA02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B97B00-4CCB-4F4A-BE77-C506AD36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26E1AA-9ABD-457F-9043-2E281FC1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611ABF-1341-4F7A-9EAB-2F5A064C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1ACF98-C94D-49B4-BC21-9E2C64DA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C49F-86C4-4430-9D39-14D282AA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DB2F59-5E7E-4AB7-8FA2-AC69E2D7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1467EC-F9EC-4BCD-9083-45F79313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BCC648-194C-4278-85C7-08DB711E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08352F-DD5A-4858-8695-12D47709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5F1B5C-4B31-4058-B7EB-64F73B47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CFBFA0-AF13-4C64-A35C-2B0357AF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4A66B4-7D6D-41C1-9F58-412EC24F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15B18F-8462-4F97-8AA8-57BDE291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B1E709-D261-4CC1-BC52-7FA5FC04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EC0378-9D1B-44C1-B172-A13B650C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1855-5B40-4811-BD75-84AFB8DE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CFC0CD-8ED5-4353-BBAF-3BEF482D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E9229E-DAD4-44CE-AF7E-E3DBF957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1F6460-46A4-4DED-A753-82406F65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0C47E3-C96E-43F5-9EB9-D427B156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9725D9-3C2D-4083-A546-3496FAB2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ACF46B-F4E7-4926-A270-770B5366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481667-A848-4134-A62A-E8C832FC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00CE90-6597-4CAF-A433-9B857C59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2B81B9-3D02-4AB0-93F9-C17F49D9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84B184-2363-419A-8042-D4722C6E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4509D-A6DF-49C4-82AF-213A7D28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9FEC2D-EECE-4219-B216-95FD096C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837637-4080-4A76-A784-A7FE0192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E7BACC-8339-4DF1-BFAC-405300D5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90ECF2-4D7F-4BA5-AC9B-E0B17E90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7DAF1B-27B1-4DD3-85F7-3BCB197A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80CDE5-F3F8-4E74-B826-E5F2E9B5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5D2F96-E32A-4B57-BAB0-6A965F26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2AB68F-E3E7-43C8-A551-FF5E9433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A7273C-6080-426D-81DC-A2C4DC73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3C995F-92F0-4A94-802B-E5B7311A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D6541-3176-46AC-84B5-84D1618A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D61FE6-50D1-4656-9D69-7BA31971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6512B6-25A8-4439-A611-2A84ECE1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6D8E70-56E3-484A-8861-2CDC1126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136D6F-3F0F-49F2-A7DB-05BBF6B1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2B6E66-400C-4F35-B742-84A061A7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5FC99-0EB2-464D-AF2D-713649BD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ED7B6-D149-40A7-9BAE-EE495424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6DF9F-098A-4A0F-908F-96CC526C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C23-3560-4263-98C3-B5622564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55151-03A0-492B-A88E-4718FADC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2D68A-DD2B-441A-A26A-39BA3659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F0C2B-D8C7-4131-AF6F-1DBCDCFD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4F7BE-82D6-4274-87DB-1CF955D1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1D774-BF32-4844-BC8A-E8989817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1247F-FFB1-431B-AC9E-569A2822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AF966-DF13-4C2F-9031-ED7B9DE6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D5A7E-5E2D-46D1-8A09-685F619A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7C344-8C1E-4542-9497-F5E6D1FE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E1937-3E55-49C3-AF08-35D73418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7AE7-9811-46D6-9F45-37104C06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8E031-19D9-4461-ACFE-1D733706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B9D82-F02B-4A30-A298-0597380E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84E2D-FE7E-4867-A453-36DAEEAD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73D39-9DBF-4A89-8548-CE5524D9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8C97F-4EA3-4EEE-98D9-EB49CDF9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23F61-537D-422C-8180-FC461BA5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FEAFE-CBBB-4856-865E-F721A4C2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38462-E86D-41D2-B5BB-6B113A7C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58670-3668-457C-B22F-F4941D6B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9FA11-9FA5-4722-A1C1-9ECC2FFB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3A5B-9631-4306-82B4-00C60A36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0ADC9-FE22-4870-A48A-D2E16895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9B020-78BB-4907-8877-075D3219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01C82-5F84-4AE3-BEAD-99B05868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CD2E7-488E-42EE-94CD-7A61022F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BEF2A-0064-43B4-AAEF-3DB56875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A730D-51F3-4518-B2BA-E3E1904B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F385C-55EE-4613-A87D-3D83B7B7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F243B-115E-4F37-93B3-E8ABEAC3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EADAF-86A8-4541-A695-3DFE05BD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74A45-171C-41B8-990F-15B81822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E91C-AB9E-49EE-B424-1D38E61C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1A0AE-1AB7-411D-AE99-7F42E2D3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FAA28E-0F95-4F07-8F0E-B2DD5512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CECAF7-329B-495C-8536-DF845594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56E1DB-6832-47D9-8ED8-400614DC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0C854D-691B-4F9A-989E-A67C90A1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9D7133-2746-4DF6-9042-0ABEBFB5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18596A-A477-4289-BE50-18D438D5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86E678-7918-46D7-B84C-ADE6208D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1CFFFF-1CE1-446F-BF05-ACAF1ABA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99D2A3-017C-4884-BAC2-B4BA3A93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1149-90CA-41A3-86F1-54DB85C1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1BBB9A-416E-4C94-9372-89DA1959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917C56-5371-4EFB-BB26-C2DBFCF5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77836F-EACC-4C03-9B96-9C4EE41C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33EEB-550C-465D-B4AC-F37CE7FE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754B5-3549-4957-8C63-47927377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E7C8F-FD9D-4ABE-A11B-FDFD89F2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5855B-BE76-428E-B12C-FB00B907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E5CEF-9595-41DF-AE3F-AAA2E995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80070-D61E-45F9-ADFA-6D6F0894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D4312-AC43-409F-8EA5-401D084B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E114-5B8C-49B6-A18A-6CE803A0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2A2F8-D564-453D-A7B3-6CE9648C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2AB5E-5505-46F0-8A15-C7FFF04F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78DA4-45C5-4E34-AB1D-1DBA4BBC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45B4A-4439-4035-9FDE-D6A4146A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F84B9-9A27-4095-BD94-65B6EF40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3BA6B-B7BE-4D99-BB23-D114FC3A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66975-EEDB-4CD0-9DD6-763636B1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A3187-1606-4823-8FDB-2C1F78AC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79B40-A494-415F-99A6-F9E1E86A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89301-9CA7-47B0-934D-42015178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E11C-DD2A-4729-8994-05F33998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FFD0A-B75E-49EC-951B-9F61CCF4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BECF1-3EAE-415B-83FD-0A5B6A14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2CEE0-E5D5-4205-8C5B-25821EF2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B0C72-53C3-4E0F-9E66-7CBAB6AC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2E5C8-02F4-4AC3-963D-4D37CEA2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17715-99D5-4FA9-B80C-2BDF142B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404CF-4022-4CAE-B89C-E985730C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8B518-4625-4718-8437-83E566B4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03036-C31C-4976-BFFB-05CDB3C8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26C76-E89B-477F-B2A4-157971AF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34A9-63B9-4634-936C-E672028132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DAD8-DC6F-482B-977E-0DADF2D93B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4036-64E9-47EC-942F-7028788EC9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437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438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DA42-CC8A-46E3-B54C-7913B00C8C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45D5-2A11-46FE-A34B-3D296CE3FA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DEA4-7460-4E62-9CD1-6FCADBA47F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BF53-48EA-41BE-A049-40CAE90014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8F84-631B-4793-A5D6-D12D75BD6C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0EEC-A28A-4514-96C6-46B8D6A2BD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8977-A666-496A-A8BF-5FE67F4F3F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C8A5-0DCD-4AB1-98D7-AE81EC8695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611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618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619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641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642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664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0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671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672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675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678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84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8741-A013-46D6-94E0-DF19845597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0329-B988-487E-9F77-8683DB44E7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C54F-11D4-44C8-8B64-BDAD9533B6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554C-749B-48E7-845D-9FF547ED17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A864-746A-4A1B-B0E4-1B5987546F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500E-8599-4A8B-88F6-39422F0F1E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92D5-2C38-4C26-98C6-C6F1D1A44C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60FE-952F-4614-81E7-CA487A0350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F3E7-2F1A-4A40-A510-84C398A27A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4859-95D4-49D1-B066-53DAC33828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BD9B-93FF-45AA-90A6-F0C34F4163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组合 145" descr=""/>
          <p:cNvPicPr/>
          <p:nvPr/>
        </p:nvPicPr>
        <p:blipFill>
          <a:blip r:embed="rId2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911" name="组合 153" descr=""/>
          <p:cNvPicPr/>
          <p:nvPr/>
        </p:nvPicPr>
        <p:blipFill>
          <a:blip r:embed="rId3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pic>
        <p:nvPicPr>
          <p:cNvPr id="912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708F-32CB-439A-8290-53CCED655B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360F-F6B4-4E1D-8939-A4199BB33F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6475-467A-410A-9F4F-C0CEB6B8B8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07AC-0EA1-42BE-8520-5F2BF44970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8A0C-B605-4083-A761-4D99079544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8521-EEC1-4714-B988-1DD0F3B4CB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0084-8510-4C2E-8330-FE636D2ED4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F2AE-685E-4BAC-A5D2-6CD52D0D22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7701-E83E-4F6D-BA6D-548F6FB4AA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CD69-FEB9-414E-A6E8-D6C006E39E9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31E1-42ED-4B4E-9350-3FD15803A7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BB68-A789-4BB5-B825-2E218334D1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40AC-C2D4-429F-9941-A2C6B8F469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0F51-ED34-464B-9642-26B10033BC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303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EDE7-E913-4E24-BC44-278D365FC6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67C3-D252-4F58-9E1A-612ACCFCE2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59F8-0F89-4182-8380-CC78F1443B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9687-1ADA-4D3A-B97A-01E46983B7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2.png"/><Relationship Id="rId19" Type="http://schemas.openxmlformats.org/officeDocument/2006/relationships/image" Target="../media/image22.png"/><Relationship Id="rId20" Type="http://schemas.openxmlformats.org/officeDocument/2006/relationships/image" Target="../media/image22.png"/><Relationship Id="rId21" Type="http://schemas.openxmlformats.org/officeDocument/2006/relationships/image" Target="../media/image22.png"/><Relationship Id="rId2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QQ图片20200801082713"/>
          <p:cNvPicPr/>
          <p:nvPr/>
        </p:nvPicPr>
        <p:blipFill>
          <a:blip r:embed="rId1"/>
          <a:stretch/>
        </p:blipFill>
        <p:spPr>
          <a:xfrm>
            <a:off x="316080" y="2146320"/>
            <a:ext cx="851184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243000" y="2114640"/>
            <a:ext cx="8658000" cy="26287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611280" y="2924280"/>
            <a:ext cx="7200720" cy="3189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539640" y="3357720"/>
            <a:ext cx="7201080" cy="3189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539640" y="3789360"/>
            <a:ext cx="7201080" cy="31896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5"/>
          <a:stretch/>
        </p:blipFill>
        <p:spPr>
          <a:xfrm>
            <a:off x="539640" y="4221000"/>
            <a:ext cx="72010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2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228600" y="2185920"/>
            <a:ext cx="8686800" cy="248616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4680000" cy="31896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468360" y="3429000"/>
            <a:ext cx="4680000" cy="31896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4680000" cy="3193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395280" y="4235400"/>
            <a:ext cx="6408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657360" y="1247760"/>
            <a:ext cx="7829280" cy="436248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2"/>
          <a:stretch/>
        </p:blipFill>
        <p:spPr>
          <a:xfrm>
            <a:off x="1187280" y="3284640"/>
            <a:ext cx="7129800" cy="31896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3"/>
          <a:stretch/>
        </p:blipFill>
        <p:spPr>
          <a:xfrm>
            <a:off x="684360" y="3716280"/>
            <a:ext cx="7129440" cy="3193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4"/>
          <a:stretch/>
        </p:blipFill>
        <p:spPr>
          <a:xfrm>
            <a:off x="684360" y="4076640"/>
            <a:ext cx="7129440" cy="3193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5"/>
          <a:stretch/>
        </p:blipFill>
        <p:spPr>
          <a:xfrm>
            <a:off x="826920" y="4508640"/>
            <a:ext cx="7417080" cy="31896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6"/>
          <a:stretch/>
        </p:blipFill>
        <p:spPr>
          <a:xfrm>
            <a:off x="900000" y="4941720"/>
            <a:ext cx="74170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1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6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图片 1" descr=""/>
          <p:cNvPicPr/>
          <p:nvPr/>
        </p:nvPicPr>
        <p:blipFill>
          <a:blip r:embed="rId1"/>
          <a:stretch/>
        </p:blipFill>
        <p:spPr>
          <a:xfrm>
            <a:off x="266760" y="1695600"/>
            <a:ext cx="8610480" cy="346680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2"/>
          <a:stretch/>
        </p:blipFill>
        <p:spPr>
          <a:xfrm>
            <a:off x="684360" y="3040200"/>
            <a:ext cx="7127640" cy="3189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3"/>
          <a:stretch/>
        </p:blipFill>
        <p:spPr>
          <a:xfrm>
            <a:off x="395280" y="3429000"/>
            <a:ext cx="7128000" cy="31896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4"/>
          <a:stretch/>
        </p:blipFill>
        <p:spPr>
          <a:xfrm>
            <a:off x="395280" y="3817800"/>
            <a:ext cx="7128000" cy="3193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5"/>
          <a:stretch/>
        </p:blipFill>
        <p:spPr>
          <a:xfrm>
            <a:off x="582480" y="4249800"/>
            <a:ext cx="7128000" cy="3189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6"/>
          <a:stretch/>
        </p:blipFill>
        <p:spPr>
          <a:xfrm>
            <a:off x="525600" y="4653000"/>
            <a:ext cx="71276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3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42840" y="776160"/>
            <a:ext cx="9058320" cy="53056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574920" cy="3189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5838840" y="1197000"/>
            <a:ext cx="574560" cy="3189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2411280" y="1614600"/>
            <a:ext cx="432000" cy="3189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3564000" y="1628640"/>
            <a:ext cx="431640" cy="3193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2916360" y="1944720"/>
            <a:ext cx="576000" cy="3189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5724360" y="1916280"/>
            <a:ext cx="863640" cy="3189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8"/>
          <a:stretch/>
        </p:blipFill>
        <p:spPr>
          <a:xfrm>
            <a:off x="900000" y="2349360"/>
            <a:ext cx="863640" cy="3193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9"/>
          <a:stretch/>
        </p:blipFill>
        <p:spPr>
          <a:xfrm>
            <a:off x="971640" y="3127320"/>
            <a:ext cx="2592360" cy="3193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0"/>
          <a:stretch/>
        </p:blipFill>
        <p:spPr>
          <a:xfrm>
            <a:off x="5219640" y="3068640"/>
            <a:ext cx="3024360" cy="3189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1"/>
          <a:stretch/>
        </p:blipFill>
        <p:spPr>
          <a:xfrm>
            <a:off x="1647720" y="3443400"/>
            <a:ext cx="1771920" cy="3189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2"/>
          <a:stretch/>
        </p:blipFill>
        <p:spPr>
          <a:xfrm>
            <a:off x="1898640" y="4498920"/>
            <a:ext cx="216000" cy="2127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13"/>
          <a:stretch/>
        </p:blipFill>
        <p:spPr>
          <a:xfrm>
            <a:off x="4500720" y="4508640"/>
            <a:ext cx="215640" cy="2127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14"/>
          <a:stretch/>
        </p:blipFill>
        <p:spPr>
          <a:xfrm>
            <a:off x="6588000" y="4508640"/>
            <a:ext cx="216000" cy="2127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15"/>
          <a:stretch/>
        </p:blipFill>
        <p:spPr>
          <a:xfrm>
            <a:off x="1998720" y="5013360"/>
            <a:ext cx="216000" cy="2127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16"/>
          <a:stretch/>
        </p:blipFill>
        <p:spPr>
          <a:xfrm>
            <a:off x="4038480" y="5013360"/>
            <a:ext cx="216000" cy="2127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17"/>
          <a:stretch/>
        </p:blipFill>
        <p:spPr>
          <a:xfrm>
            <a:off x="7346880" y="5013360"/>
            <a:ext cx="216000" cy="2127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18"/>
          <a:stretch/>
        </p:blipFill>
        <p:spPr>
          <a:xfrm>
            <a:off x="900000" y="5734080"/>
            <a:ext cx="863640" cy="3189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19"/>
          <a:stretch/>
        </p:blipFill>
        <p:spPr>
          <a:xfrm>
            <a:off x="2411280" y="5805360"/>
            <a:ext cx="863640" cy="3193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20"/>
          <a:stretch/>
        </p:blipFill>
        <p:spPr>
          <a:xfrm>
            <a:off x="3924360" y="5734080"/>
            <a:ext cx="863640" cy="3189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1"/>
          <a:stretch/>
        </p:blipFill>
        <p:spPr>
          <a:xfrm>
            <a:off x="5435640" y="5734080"/>
            <a:ext cx="8636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200160" y="1938240"/>
            <a:ext cx="8743680" cy="29815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1908000" y="2349360"/>
            <a:ext cx="648000" cy="3193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4572000" y="2349360"/>
            <a:ext cx="647640" cy="3193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7236000" y="227664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5"/>
          <a:stretch/>
        </p:blipFill>
        <p:spPr>
          <a:xfrm>
            <a:off x="7020000" y="270828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6"/>
          <a:stretch/>
        </p:blipFill>
        <p:spPr>
          <a:xfrm>
            <a:off x="826920" y="3068640"/>
            <a:ext cx="648000" cy="3189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7"/>
          <a:stretch/>
        </p:blipFill>
        <p:spPr>
          <a:xfrm>
            <a:off x="826920" y="3789360"/>
            <a:ext cx="648000" cy="3189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8"/>
          <a:stretch/>
        </p:blipFill>
        <p:spPr>
          <a:xfrm>
            <a:off x="3564000" y="378936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9"/>
          <a:stretch/>
        </p:blipFill>
        <p:spPr>
          <a:xfrm>
            <a:off x="900000" y="4581360"/>
            <a:ext cx="647640" cy="3193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10"/>
          <a:stretch/>
        </p:blipFill>
        <p:spPr>
          <a:xfrm>
            <a:off x="5651640" y="4581360"/>
            <a:ext cx="64764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图片 1" descr=""/>
          <p:cNvPicPr/>
          <p:nvPr/>
        </p:nvPicPr>
        <p:blipFill>
          <a:blip r:embed="rId1"/>
          <a:stretch/>
        </p:blipFill>
        <p:spPr>
          <a:xfrm>
            <a:off x="38160" y="2286000"/>
            <a:ext cx="9067680" cy="22860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2"/>
          <a:stretch/>
        </p:blipFill>
        <p:spPr>
          <a:xfrm>
            <a:off x="8345520" y="2637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3"/>
          <a:stretch/>
        </p:blipFill>
        <p:spPr>
          <a:xfrm>
            <a:off x="8317080" y="2997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4"/>
          <a:stretch/>
        </p:blipFill>
        <p:spPr>
          <a:xfrm>
            <a:off x="8388360" y="3429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5"/>
          <a:stretch/>
        </p:blipFill>
        <p:spPr>
          <a:xfrm>
            <a:off x="8317080" y="3789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6"/>
          <a:stretch/>
        </p:blipFill>
        <p:spPr>
          <a:xfrm>
            <a:off x="8388360" y="423540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图片 1" descr=""/>
          <p:cNvPicPr/>
          <p:nvPr/>
        </p:nvPicPr>
        <p:blipFill>
          <a:blip r:embed="rId1"/>
          <a:stretch/>
        </p:blipFill>
        <p:spPr>
          <a:xfrm>
            <a:off x="352440" y="1185840"/>
            <a:ext cx="8439120" cy="44863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2"/>
          <a:stretch/>
        </p:blipFill>
        <p:spPr>
          <a:xfrm>
            <a:off x="6659640" y="1557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3"/>
          <a:stretch/>
        </p:blipFill>
        <p:spPr>
          <a:xfrm>
            <a:off x="4427640" y="2421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4"/>
          <a:stretch/>
        </p:blipFill>
        <p:spPr>
          <a:xfrm>
            <a:off x="3708360" y="3213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5"/>
          <a:stretch/>
        </p:blipFill>
        <p:spPr>
          <a:xfrm>
            <a:off x="1979640" y="40766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6"/>
          <a:stretch/>
        </p:blipFill>
        <p:spPr>
          <a:xfrm>
            <a:off x="4903920" y="4897440"/>
            <a:ext cx="3585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图片 1" descr=""/>
          <p:cNvPicPr/>
          <p:nvPr/>
        </p:nvPicPr>
        <p:blipFill>
          <a:blip r:embed="rId1"/>
          <a:stretch/>
        </p:blipFill>
        <p:spPr>
          <a:xfrm>
            <a:off x="152280" y="1190520"/>
            <a:ext cx="8839440" cy="44769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2"/>
          <a:stretch/>
        </p:blipFill>
        <p:spPr>
          <a:xfrm>
            <a:off x="1979640" y="1974960"/>
            <a:ext cx="504720" cy="3189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3"/>
          <a:stretch/>
        </p:blipFill>
        <p:spPr>
          <a:xfrm>
            <a:off x="4284720" y="1989000"/>
            <a:ext cx="504720" cy="3193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4"/>
          <a:stretch/>
        </p:blipFill>
        <p:spPr>
          <a:xfrm>
            <a:off x="6300720" y="1989000"/>
            <a:ext cx="504720" cy="3193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5"/>
          <a:stretch/>
        </p:blipFill>
        <p:spPr>
          <a:xfrm>
            <a:off x="8531280" y="1960560"/>
            <a:ext cx="504720" cy="3189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6"/>
          <a:stretch/>
        </p:blipFill>
        <p:spPr>
          <a:xfrm>
            <a:off x="1908000" y="2421000"/>
            <a:ext cx="505080" cy="31896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7"/>
          <a:stretch/>
        </p:blipFill>
        <p:spPr>
          <a:xfrm>
            <a:off x="4154400" y="2349360"/>
            <a:ext cx="505080" cy="31932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8"/>
          <a:stretch/>
        </p:blipFill>
        <p:spPr>
          <a:xfrm>
            <a:off x="6588000" y="2421000"/>
            <a:ext cx="505080" cy="3189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9"/>
          <a:stretch/>
        </p:blipFill>
        <p:spPr>
          <a:xfrm>
            <a:off x="8510760" y="2406600"/>
            <a:ext cx="504720" cy="31896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10"/>
          <a:stretch/>
        </p:blipFill>
        <p:spPr>
          <a:xfrm>
            <a:off x="900000" y="3645000"/>
            <a:ext cx="1871640" cy="194472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11"/>
          <a:stretch/>
        </p:blipFill>
        <p:spPr>
          <a:xfrm>
            <a:off x="2124000" y="324180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12"/>
          <a:stretch/>
        </p:blipFill>
        <p:spPr>
          <a:xfrm>
            <a:off x="4241880" y="3602160"/>
            <a:ext cx="4146480" cy="194472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13"/>
          <a:stretch/>
        </p:blipFill>
        <p:spPr>
          <a:xfrm>
            <a:off x="5465880" y="3227400"/>
            <a:ext cx="8348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图片 1" descr=""/>
          <p:cNvPicPr/>
          <p:nvPr/>
        </p:nvPicPr>
        <p:blipFill>
          <a:blip r:embed="rId1"/>
          <a:stretch/>
        </p:blipFill>
        <p:spPr>
          <a:xfrm>
            <a:off x="1062000" y="1828800"/>
            <a:ext cx="7020000" cy="320040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2"/>
          <a:stretch/>
        </p:blipFill>
        <p:spPr>
          <a:xfrm>
            <a:off x="2282760" y="1873080"/>
            <a:ext cx="849240" cy="3193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3"/>
          <a:stretch/>
        </p:blipFill>
        <p:spPr>
          <a:xfrm>
            <a:off x="1258920" y="2708280"/>
            <a:ext cx="1873080" cy="25923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4"/>
          <a:stretch/>
        </p:blipFill>
        <p:spPr>
          <a:xfrm>
            <a:off x="5711760" y="1873080"/>
            <a:ext cx="849240" cy="31932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5"/>
          <a:stretch/>
        </p:blipFill>
        <p:spPr>
          <a:xfrm>
            <a:off x="4572000" y="2276640"/>
            <a:ext cx="367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图片 1" descr=""/>
          <p:cNvPicPr/>
          <p:nvPr/>
        </p:nvPicPr>
        <p:blipFill>
          <a:blip r:embed="rId1"/>
          <a:stretch/>
        </p:blipFill>
        <p:spPr>
          <a:xfrm>
            <a:off x="509760" y="2367000"/>
            <a:ext cx="8124480" cy="212400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2"/>
          <a:stretch/>
        </p:blipFill>
        <p:spPr>
          <a:xfrm>
            <a:off x="826920" y="3254400"/>
            <a:ext cx="1729080" cy="31896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3"/>
          <a:stretch/>
        </p:blipFill>
        <p:spPr>
          <a:xfrm>
            <a:off x="826920" y="3645000"/>
            <a:ext cx="1729080" cy="31896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4"/>
          <a:stretch/>
        </p:blipFill>
        <p:spPr>
          <a:xfrm>
            <a:off x="3708360" y="3254400"/>
            <a:ext cx="1728720" cy="3189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5"/>
          <a:stretch/>
        </p:blipFill>
        <p:spPr>
          <a:xfrm>
            <a:off x="3708360" y="3645000"/>
            <a:ext cx="1728720" cy="3189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6"/>
          <a:stretch/>
        </p:blipFill>
        <p:spPr>
          <a:xfrm>
            <a:off x="6588000" y="3254400"/>
            <a:ext cx="1729080" cy="3189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7"/>
          <a:stretch/>
        </p:blipFill>
        <p:spPr>
          <a:xfrm>
            <a:off x="6588000" y="3645000"/>
            <a:ext cx="17290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图片 1" descr=""/>
          <p:cNvPicPr/>
          <p:nvPr/>
        </p:nvPicPr>
        <p:blipFill>
          <a:blip r:embed="rId1"/>
          <a:stretch/>
        </p:blipFill>
        <p:spPr>
          <a:xfrm>
            <a:off x="149400" y="824040"/>
            <a:ext cx="8956440" cy="58928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2"/>
          <a:stretch/>
        </p:blipFill>
        <p:spPr>
          <a:xfrm>
            <a:off x="826920" y="2119320"/>
            <a:ext cx="7201080" cy="3189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3"/>
          <a:stretch/>
        </p:blipFill>
        <p:spPr>
          <a:xfrm>
            <a:off x="812880" y="2492280"/>
            <a:ext cx="7200720" cy="3193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4"/>
          <a:stretch/>
        </p:blipFill>
        <p:spPr>
          <a:xfrm>
            <a:off x="482760" y="4957920"/>
            <a:ext cx="7200720" cy="3189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5"/>
          <a:stretch/>
        </p:blipFill>
        <p:spPr>
          <a:xfrm>
            <a:off x="468360" y="5330880"/>
            <a:ext cx="7200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0:29:35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